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89D-F8AA-4D1D-9CA9-644FD7AA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AFC-EE4E-484B-AB9B-A6636E7D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6A0353-CC43-4BFA-8148-A70E55FD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43AE40-5911-4898-A9F1-30400DAA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8CCB8-FA86-4032-8019-050E6CFA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CC49C1-B409-4EC0-BC12-3C23177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C225F1-22D2-410F-8650-43E75BC3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AC907D-36FC-4792-B066-B9FC28D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4A935F-F514-4F13-B3B4-C3C2005C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2D7AB6-56AA-4B9C-9DB1-86CCC66D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BA317-D419-44EC-9F80-7D093B59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C6E77-E737-4A1F-BBBE-44B471C6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60B-534F-47E1-BD47-2E1E69E0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E9861-4C20-4B28-AA20-3792B192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140FB-1631-4CB8-AB9A-DC8989B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23857-B224-47DE-8337-00D8A5E7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9E18-1005-43DF-BD14-11D1291E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83E6C-A429-40BC-8051-5D1A11E8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E3E27-4D24-455C-94D4-E7C6FFEB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E0246-D2C2-4C93-AE58-785E9AFA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E352A-4FDC-491C-B528-8C165D4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6634C-462C-42E4-8B45-EFD64171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AF4A4-CFF2-42BC-AC44-43C66E91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830-77EC-444C-B425-25B0B5D3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1F16D-BDED-44F6-B9E5-93AD480F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D5815-4EF0-483B-B30D-7F36E48B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0096A-2FA6-45F1-984E-FC149CF2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FECE7-AF4C-4563-8B6B-AEB358D5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2822A-38DF-4545-B1A5-581F78D9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19344-901A-4BB3-A540-1B88625E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00255-4A69-497B-9F89-6995FDE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59B7A-10DD-4E14-B3A8-A7730A67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54A02-EBF3-48EE-96AA-7FA6D934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ACCC5-D1C7-4813-94FB-B592AAA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4B0D1-76CC-4DC0-B074-290E60B6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F74BF-5151-44C1-BC54-16CEEF1E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752D4-1CB1-4B30-B453-7F3A72A4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2A9D-BBC3-4962-A967-475876E1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11A3C-B3CF-4C41-B569-0922FE66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B0AC6-7C80-4F0D-9BC0-D411F285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A1029-4063-4527-9E2B-4A071960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0440F-FCB3-4AC0-B350-66831DA1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845AD-6948-4D25-B2B1-8EFF20D3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1141A-B4B7-49FD-A2DA-A6D40735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C02C8-F0E7-41D1-A28B-A36B903F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2FB70-C0D2-4C26-B8AE-A8A18EB1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580DA-0D6F-4E65-9AEA-4C4F7805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49846-7F57-4630-9DD2-7C10694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B8D3C-9C1A-4711-BE9F-DDECFB35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5A3F8-7249-4C2F-AA3E-63F3275B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A2D17-CF29-4E27-A7B9-75CC5FC7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5297D-AF4F-46FE-AA84-A8E63921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3E397-CFD6-43C2-86E0-9DFEC888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D2B5C-4F19-43CB-9E6F-9EE6E56E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FF4C7-940D-49C4-A1C0-85631BCC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E86D1-7632-4824-8965-C4AB2B20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5455E-4A4A-4774-9E5B-A2869ADE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EB499-9A27-4FA4-8CE6-6C01AB05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19342-E1CE-4D72-A2E6-761F706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E5997-C1E3-4849-834E-6439C469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AA3EE-1151-4365-A8B7-FC51AE1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B4D40-1CAD-4601-983F-6CAA30D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33223-F1B7-4720-B38D-12FD75B1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9295D-F329-41EA-8A0E-AFE539AB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3ECEA-1310-4CC6-AF16-254BAF7F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169B3-2653-4F16-B16D-D3343A0F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B80E8-6BE7-4263-8663-8C7E58A1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A1F40-9E4F-4B73-BBCB-46B46702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08638-6708-451D-A1CF-67D881F8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40BE6-CCD1-4FF5-9300-12D04112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5E455-F891-40E8-8779-1309036F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FFE2E-F00E-4ADE-8FF4-0AA508E4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CF383-011B-41E6-BFC2-ECA05EB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7A113-7DE2-4368-9017-D5DE122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1152A-4C7B-4397-838E-5011756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C25D6-5A74-45F7-9B85-85732F16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2FAE7-EA65-494B-B727-0F05829A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20434-0A79-4582-A24E-8F57E6F3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B196C-3685-4890-B5E1-FD5ECA93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2E21D5-8B4A-49A2-8690-B72542ED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47896-892C-42B8-88B3-D0EFE83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4C9BB-9EF9-46B4-90E7-846E4254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80E5D-9B8F-47F3-B137-4537E818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8E106-6469-4797-8E8F-9B0ED9C6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EC751-D28F-4173-9686-CC3CD72F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084FB-FA43-4EBB-9135-E2AC3F4D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2031D-D4F7-4B7E-9F74-47F997C1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CD68C-FF81-4746-A8BC-3054002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E5F43-59AF-4AE9-8AD8-F8A36188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4B11A-FC33-4315-8A8D-486E3F20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50CEE-78AD-449F-B362-FB31EF21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4EC95-A4FC-4481-9666-4E3AB8B8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65575-1147-425C-B5C5-A0785805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66B83-1576-475B-8892-72954B3A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D53A5-D6C9-4C5E-9000-7EB28940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21264F-264B-453A-A7E8-D25EDABC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13D2F-54F1-47E5-865E-FB02F88D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06CA8-A358-42AF-892E-6C41E21A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65DA8-E066-438A-AF17-CD7ED0A6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DFEAF-E458-4934-A5DF-DFF761F7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DC2F9-9BFF-4AA1-882E-C02ABE06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DF85C-50F0-4C47-BA09-8E178E19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10FF2-CB59-4864-9D1C-9F1E7142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304E2-F848-4097-8284-56AFD383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220094-7E54-42DF-B345-88BA1563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D990FA-5B55-4826-8395-F655890F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087D3B-EB38-4EA0-9B70-3439F6A3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2C01AB-A920-49A7-9AC2-ECBAF276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CA896D-7E71-46D0-9EF0-2968246A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DA8AA3-BBC0-4ABE-9813-5AA467B4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F5D948-71DD-4DB0-819E-686F0B4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CA9-44DB-4FAE-AD63-5A04F66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716E0-BC01-4BD0-889B-93D3909C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7BBE6D-CC06-4684-8B61-18B8DB1D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E365BF-E5DB-460D-A94A-5669F310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22716F-BF81-4F02-8C4D-BBA9C5CA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84AB27-074C-48CC-B44D-96E40BA6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079487-1220-4D4B-8AD0-62F2E610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D6B99-BC18-4273-BFB5-794CA3D7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B704E-0E38-44A9-B9F2-594EC39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167CD-8E46-474D-8D34-F28B66E1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2E679-1B72-44E4-9845-EC6D0007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31C1-653D-4F5A-A004-4209C719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CD59B-C108-41A5-9DCE-129984BF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156F-C25C-4229-A378-8CFE61A0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520CE-2E74-4AAC-BDED-BFA9454B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4901-5E24-4CB3-A185-6D33A93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656-5F3E-4C80-A44C-318A442F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7732-8A77-4537-A5CA-154CAE7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5D1D-7535-4856-B45A-2B02877F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BF27-9ACD-482D-805F-D7522C4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C68E-755F-401D-A15B-9B50C6C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D321-CEC6-4D23-A936-0F80223F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7EAB-67DA-4CA3-890F-EDCB39EA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C209-F60C-47B2-BCE7-246F6984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E723-F465-4540-9CEB-04EBE387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D6EC-0D99-4EFC-86BC-662C0ED9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6C9C-69DA-4A0E-9246-41D1D9EB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CA6-91F3-44F5-B481-7EDB7E3C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B7AE-1B05-49FF-95EA-8E5352AE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56CA-7F9E-4805-B6DC-766CA732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F333-B91F-4081-B598-F7D35839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4B16-1902-4F65-BA2C-68856EEC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A7F8-64FC-4474-B896-5AAF363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2BFD-79E6-44F1-90CC-551FF6F2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A45F8-6A3B-45D1-877D-35BF1CF6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C485-0BD1-454D-833F-7E29B303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5D5D-9E94-4AEF-ACDA-57D99140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89FEC-17B0-42B5-BE6D-9A4095B5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ADD-0217-4EC9-AC6F-7E815FD6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92322-A604-487C-89A4-8B7F2EDB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67420-8648-4350-8434-4D5B0C6D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5890-9D3A-4EE8-B168-E77F88D5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C12CE-0CE0-44CF-ABDF-EA8693AD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A432F-B345-4905-8CB9-968D2E3C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2FF3-2A78-4BDE-A33C-C0D28D3F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B5A3-9EB2-4622-A38C-59C79F5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7D4A-0160-4FE3-B21D-B8333894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DF48E-5732-41FA-9763-DB46D93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C0AAE-B6E8-4A94-A9AC-ADD1B481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148-A4C3-400C-8E23-2134ED31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DE439-36C1-4203-8272-6C276851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B8F1F-404B-45F3-A7D6-3132EB3D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4FD8D-4ECC-4A4E-B724-E2F2333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AC58-8668-472E-A996-9D0C7BFE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FCB68-742D-4A78-8704-D257AB1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69E1-239B-47F1-8349-2E17338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CFAA-0C24-4292-896B-8A8788AB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59E85-5724-42F7-8117-94328DCA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0E1C-A7C8-4E75-A56D-859C5703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8A14-1CCD-46AC-93F0-A53B0544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3CA-4723-40F3-8168-BF8B59D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DD48-06AE-4691-B46B-8712935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CE47D-B376-48F8-BE7B-B1D99FDD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29C27-23EA-45D8-9A44-442A92B6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E532-046F-4D31-865D-2C0BBABE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5864-C506-4B0E-80A7-07E7413F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87901-07F6-413C-864D-083201BF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8BB6D-153F-48A5-B6E9-0DEE7EAA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72BF1-72A5-4748-A40D-B183C8EA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EC54-38F4-4ED9-9D1C-5C5FED23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9F79F-EC52-4158-9A75-07A28A33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3E9-B206-4CA5-B832-79489D3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04EE8-7B43-4711-8EFE-A6A5715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DEAF-B6FD-4A9B-9F2B-0B311336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4B0A5-052B-48AB-BA2B-0454EC5F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81AB5-6F03-40CF-97DE-C6D8601A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83851-FBE0-4A3E-919C-4414B670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261ED-B9CF-4B1E-AAEC-599EFA46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E0D09-7780-4830-93A0-AC9EE1B4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3E4BF-E6AF-4EA2-8B01-68913B07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310FC-187D-45F3-9213-F357727A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162FB-6005-4EBB-A6EF-5BD5F806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7D8-6B91-43AC-9F2C-E6ED52D1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8A4C0-2568-493A-9807-D24E172D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5B772-4327-4A1D-8929-CDF91FF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5A16F-D689-4B91-912E-F7F9651B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A9EE0-FAB7-40A9-B494-855A485C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66E3E-27E9-446B-8756-548CECB2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89C9A-84B9-4E6C-A57E-22EA475C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6CB51-4092-4F88-96D0-FEDAC090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3EC616-C508-4466-BF97-3102C9DC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B92DF6-4F0A-40B9-B2F5-7EAFE84E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EA4372-0BBD-47ED-9CFC-C94753B1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F31-C058-423F-916F-C72CC25E7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9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08F-2D57-43C4-A61B-CDC94A9A45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7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658" name="Oval 8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10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1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12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C37-8FC0-42B4-84B1-427915E45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0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707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708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757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6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F9F9-27B6-4145-91DD-9917FFB818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8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812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20720" indent="-27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08440" indent="-2214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551960" indent="-2214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3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EAF-7800-4644-91FA-66F90F011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6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6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8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0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0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C90C-7AA1-4F05-B79E-56B8F5A6A2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6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E40C-1E9F-44B2-9FA5-76A9E6DAE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Group 2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1026" name="AutoShape 3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4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Group 5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1029" name="AutoShape 6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AutoShape 7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3C34-C3EE-4B33-B2D0-7A5F9C929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2"/>
          <p:cNvGrpSpPr/>
          <p:nvPr/>
        </p:nvGrpSpPr>
        <p:grpSpPr>
          <a:xfrm>
            <a:off x="762120" y="304200"/>
            <a:ext cx="8076960" cy="6325200"/>
            <a:chOff x="762120" y="304200"/>
            <a:chExt cx="8076960" cy="6325200"/>
          </a:xfrm>
        </p:grpSpPr>
        <p:sp>
          <p:nvSpPr>
            <p:cNvPr id="1075" name="AutoShape 3"/>
            <p:cNvSpPr/>
            <p:nvPr/>
          </p:nvSpPr>
          <p:spPr>
            <a:xfrm>
              <a:off x="762120" y="304920"/>
              <a:ext cx="8076960" cy="632448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AutoShape 4"/>
            <p:cNvSpPr/>
            <p:nvPr/>
          </p:nvSpPr>
          <p:spPr>
            <a:xfrm flipV="1" rot="5400000">
              <a:off x="4724280" y="-365832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AutoShape 5"/>
            <p:cNvSpPr/>
            <p:nvPr/>
          </p:nvSpPr>
          <p:spPr>
            <a:xfrm rot="16200000">
              <a:off x="-2171520" y="3390840"/>
              <a:ext cx="5943600" cy="75960"/>
            </a:xfrm>
            <a:custGeom>
              <a:avLst/>
              <a:gdLst>
                <a:gd name="textAreaLeft" fmla="*/ 1458720 w 5943600"/>
                <a:gd name="textAreaRight" fmla="*/ 4484880 w 5943600"/>
                <a:gd name="textAreaTop" fmla="*/ 19080 h 75960"/>
                <a:gd name="textAreaBottom" fmla="*/ 572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06" y="21600"/>
                  </a:lnTo>
                  <a:lnTo>
                    <a:pt x="145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AutoShape 6"/>
            <p:cNvSpPr/>
            <p:nvPr/>
          </p:nvSpPr>
          <p:spPr>
            <a:xfrm flipH="1" rot="5400000">
              <a:off x="5904720" y="3390840"/>
              <a:ext cx="5790960" cy="75960"/>
            </a:xfrm>
            <a:custGeom>
              <a:avLst/>
              <a:gdLst>
                <a:gd name="textAreaLeft" fmla="*/ 1422000 w 5790960"/>
                <a:gd name="textAreaRight" fmla="*/ 4368960 w 5790960"/>
                <a:gd name="textAreaTop" fmla="*/ 19080 h 75960"/>
                <a:gd name="textAreaBottom" fmla="*/ 572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06" y="21600"/>
                  </a:lnTo>
                  <a:lnTo>
                    <a:pt x="145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25d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AutoShape 7"/>
          <p:cNvSpPr/>
          <p:nvPr/>
        </p:nvSpPr>
        <p:spPr>
          <a:xfrm>
            <a:off x="2128680" y="2738520"/>
            <a:ext cx="246096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8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1081" name="AutoShape 9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AutoShape 10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11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AutoShape 12"/>
          <p:cNvSpPr/>
          <p:nvPr/>
        </p:nvSpPr>
        <p:spPr>
          <a:xfrm>
            <a:off x="152280" y="617220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3"/>
          <p:cNvSpPr/>
          <p:nvPr/>
        </p:nvSpPr>
        <p:spPr>
          <a:xfrm>
            <a:off x="152280" y="632448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AutoShape 14"/>
          <p:cNvSpPr/>
          <p:nvPr/>
        </p:nvSpPr>
        <p:spPr>
          <a:xfrm>
            <a:off x="152280" y="6477120"/>
            <a:ext cx="457200" cy="7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20"/>
          <p:cNvGrpSpPr/>
          <p:nvPr/>
        </p:nvGrpSpPr>
        <p:grpSpPr>
          <a:xfrm>
            <a:off x="914400" y="3733920"/>
            <a:ext cx="7848720" cy="2438280"/>
            <a:chOff x="914400" y="3733920"/>
            <a:chExt cx="7848720" cy="2438280"/>
          </a:xfrm>
        </p:grpSpPr>
        <p:sp>
          <p:nvSpPr>
            <p:cNvPr id="1088" name="Line 21"/>
            <p:cNvSpPr/>
            <p:nvPr/>
          </p:nvSpPr>
          <p:spPr>
            <a:xfrm>
              <a:off x="914400" y="3733920"/>
              <a:ext cx="784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2"/>
            <p:cNvGrpSpPr/>
            <p:nvPr/>
          </p:nvGrpSpPr>
          <p:grpSpPr>
            <a:xfrm>
              <a:off x="8238960" y="6019920"/>
              <a:ext cx="262080" cy="152280"/>
              <a:chOff x="8238960" y="6019920"/>
              <a:chExt cx="262080" cy="152280"/>
            </a:xfrm>
          </p:grpSpPr>
          <p:sp>
            <p:nvSpPr>
              <p:cNvPr id="1090" name="Rectangle 23"/>
              <p:cNvSpPr/>
              <p:nvPr/>
            </p:nvSpPr>
            <p:spPr>
              <a:xfrm>
                <a:off x="8238960" y="615420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24"/>
              <p:cNvSpPr/>
              <p:nvPr/>
            </p:nvSpPr>
            <p:spPr>
              <a:xfrm>
                <a:off x="8307360" y="612144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25"/>
              <p:cNvSpPr/>
              <p:nvPr/>
            </p:nvSpPr>
            <p:spPr>
              <a:xfrm>
                <a:off x="8377560" y="607032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26"/>
              <p:cNvSpPr/>
              <p:nvPr/>
            </p:nvSpPr>
            <p:spPr>
              <a:xfrm>
                <a:off x="8448120" y="601992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Freeform 27"/>
            <p:cNvSpPr/>
            <p:nvPr/>
          </p:nvSpPr>
          <p:spPr>
            <a:xfrm>
              <a:off x="8120160" y="601992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Group 28"/>
            <p:cNvGrpSpPr/>
            <p:nvPr/>
          </p:nvGrpSpPr>
          <p:grpSpPr>
            <a:xfrm>
              <a:off x="8577360" y="5867280"/>
              <a:ext cx="109440" cy="304920"/>
              <a:chOff x="8577360" y="5867280"/>
              <a:chExt cx="109440" cy="304920"/>
            </a:xfrm>
          </p:grpSpPr>
          <p:sp>
            <p:nvSpPr>
              <p:cNvPr id="1096" name="Freeform 29"/>
              <p:cNvSpPr/>
              <p:nvPr/>
            </p:nvSpPr>
            <p:spPr>
              <a:xfrm>
                <a:off x="8577360" y="5867280"/>
                <a:ext cx="109440" cy="30492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Freeform 30"/>
              <p:cNvSpPr/>
              <p:nvPr/>
            </p:nvSpPr>
            <p:spPr>
              <a:xfrm>
                <a:off x="8577360" y="601992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ftr" idx="49"/>
          </p:nvPr>
        </p:nvSpPr>
        <p:spPr>
          <a:xfrm>
            <a:off x="2133360" y="6244920"/>
            <a:ext cx="52578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sldNum" idx="50"/>
          </p:nvPr>
        </p:nvSpPr>
        <p:spPr>
          <a:xfrm>
            <a:off x="7543440" y="6244920"/>
            <a:ext cx="11430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1349-9694-4221-942B-5C178BAEF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dt" idx="51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FA0B-15D5-436F-A56B-098C36B17F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8F01-7979-4E50-BAF2-8A9096040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110" name="Oval 8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56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57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206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4A30-8231-4BA4-93A5-564232BDB7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259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261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20720" indent="-27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08440" indent="-2214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551960" indent="-2214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9E0B-77BA-47A0-A5CB-27C8F7D24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0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1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3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5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5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9BC5-B4EE-4212-A300-00770FB00C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A43-40BD-4581-B94D-83CF8648E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475" name="AutoShape 3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4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5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78" name="AutoShape 6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AutoShape 7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2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7009-21F8-4598-84AB-BE6DED7C3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762120" y="1828080"/>
            <a:ext cx="8076960" cy="4801320"/>
            <a:chOff x="762120" y="1828080"/>
            <a:chExt cx="8076960" cy="4801320"/>
          </a:xfrm>
        </p:grpSpPr>
        <p:sp>
          <p:nvSpPr>
            <p:cNvPr id="524" name="AutoShape 3"/>
            <p:cNvSpPr/>
            <p:nvPr/>
          </p:nvSpPr>
          <p:spPr>
            <a:xfrm>
              <a:off x="762120" y="1828800"/>
              <a:ext cx="8076960" cy="480060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 rot="16200000">
              <a:off x="-1485720" y="4228920"/>
              <a:ext cx="4572000" cy="75960"/>
            </a:xfrm>
            <a:custGeom>
              <a:avLst/>
              <a:gdLst>
                <a:gd name="textAreaLeft" fmla="*/ 1122480 w 4572000"/>
                <a:gd name="textAreaRight" fmla="*/ 3449880 w 4572000"/>
                <a:gd name="textAreaTop" fmla="*/ 19080 h 75960"/>
                <a:gd name="textAreaBottom" fmla="*/ 572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06" y="21600"/>
                  </a:lnTo>
                  <a:lnTo>
                    <a:pt x="145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5"/>
            <p:cNvSpPr/>
            <p:nvPr/>
          </p:nvSpPr>
          <p:spPr>
            <a:xfrm flipH="1" rot="5400000">
              <a:off x="6476400" y="4190760"/>
              <a:ext cx="4647960" cy="75960"/>
            </a:xfrm>
            <a:custGeom>
              <a:avLst/>
              <a:gdLst>
                <a:gd name="textAreaLeft" fmla="*/ 1141200 w 4647960"/>
                <a:gd name="textAreaRight" fmla="*/ 3506760 w 4647960"/>
                <a:gd name="textAreaTop" fmla="*/ 19080 h 75960"/>
                <a:gd name="textAreaBottom" fmla="*/ 572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06" y="21600"/>
                  </a:lnTo>
                  <a:lnTo>
                    <a:pt x="145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25d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utoShape 6"/>
            <p:cNvSpPr/>
            <p:nvPr/>
          </p:nvSpPr>
          <p:spPr>
            <a:xfrm flipV="1" rot="5400000">
              <a:off x="4724280" y="-213444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7"/>
          <p:cNvGrpSpPr/>
          <p:nvPr/>
        </p:nvGrpSpPr>
        <p:grpSpPr>
          <a:xfrm>
            <a:off x="762120" y="380880"/>
            <a:ext cx="8076960" cy="1143000"/>
            <a:chOff x="762120" y="380880"/>
            <a:chExt cx="8076960" cy="1143000"/>
          </a:xfrm>
        </p:grpSpPr>
        <p:sp>
          <p:nvSpPr>
            <p:cNvPr id="529" name="AutoShape 8"/>
            <p:cNvSpPr/>
            <p:nvPr/>
          </p:nvSpPr>
          <p:spPr>
            <a:xfrm>
              <a:off x="762120" y="380880"/>
              <a:ext cx="8076960" cy="1143000"/>
            </a:xfrm>
            <a:prstGeom prst="roundRect">
              <a:avLst>
                <a:gd name="adj" fmla="val 12083"/>
              </a:avLst>
            </a:prstGeom>
            <a:gradFill rotWithShape="0">
              <a:gsLst>
                <a:gs pos="0">
                  <a:srgbClr val="b1c99c"/>
                </a:gs>
                <a:gs pos="100000">
                  <a:srgbClr val="99ad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9"/>
            <p:cNvSpPr/>
            <p:nvPr/>
          </p:nvSpPr>
          <p:spPr>
            <a:xfrm flipV="1" rot="5400000">
              <a:off x="4724280" y="-3581280"/>
              <a:ext cx="152640" cy="807696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AutoShape 10"/>
          <p:cNvSpPr/>
          <p:nvPr/>
        </p:nvSpPr>
        <p:spPr>
          <a:xfrm>
            <a:off x="2128680" y="2738520"/>
            <a:ext cx="246096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152280" y="6172200"/>
            <a:ext cx="457200" cy="380880"/>
            <a:chOff x="152280" y="6172200"/>
            <a:chExt cx="457200" cy="380880"/>
          </a:xfrm>
        </p:grpSpPr>
        <p:sp>
          <p:nvSpPr>
            <p:cNvPr id="533" name="AutoShape 12"/>
            <p:cNvSpPr/>
            <p:nvPr/>
          </p:nvSpPr>
          <p:spPr>
            <a:xfrm>
              <a:off x="152280" y="617220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13"/>
            <p:cNvSpPr/>
            <p:nvPr/>
          </p:nvSpPr>
          <p:spPr>
            <a:xfrm>
              <a:off x="152280" y="632448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AutoShape 14"/>
            <p:cNvSpPr/>
            <p:nvPr/>
          </p:nvSpPr>
          <p:spPr>
            <a:xfrm>
              <a:off x="152280" y="6477120"/>
              <a:ext cx="457200" cy="7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ftr" idx="25"/>
          </p:nvPr>
        </p:nvSpPr>
        <p:spPr>
          <a:xfrm>
            <a:off x="2133360" y="6248520"/>
            <a:ext cx="52578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26"/>
          </p:nvPr>
        </p:nvSpPr>
        <p:spPr>
          <a:xfrm>
            <a:off x="7467120" y="6308280"/>
            <a:ext cx="1219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D44-BC2D-47E5-88A9-13E1B8E6F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dt" idx="27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19"/>
          <p:cNvGrpSpPr/>
          <p:nvPr/>
        </p:nvGrpSpPr>
        <p:grpSpPr>
          <a:xfrm>
            <a:off x="914400" y="6019920"/>
            <a:ext cx="7772400" cy="304560"/>
            <a:chOff x="914400" y="6019920"/>
            <a:chExt cx="7772400" cy="304560"/>
          </a:xfrm>
        </p:grpSpPr>
        <p:sp>
          <p:nvSpPr>
            <p:cNvPr id="541" name="Line 20"/>
            <p:cNvSpPr/>
            <p:nvPr/>
          </p:nvSpPr>
          <p:spPr>
            <a:xfrm>
              <a:off x="914400" y="617220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21"/>
            <p:cNvGrpSpPr/>
            <p:nvPr/>
          </p:nvGrpSpPr>
          <p:grpSpPr>
            <a:xfrm>
              <a:off x="8238960" y="6172200"/>
              <a:ext cx="262080" cy="152280"/>
              <a:chOff x="8238960" y="6172200"/>
              <a:chExt cx="262080" cy="152280"/>
            </a:xfrm>
          </p:grpSpPr>
          <p:sp>
            <p:nvSpPr>
              <p:cNvPr id="543" name="Rectangle 22"/>
              <p:cNvSpPr/>
              <p:nvPr/>
            </p:nvSpPr>
            <p:spPr>
              <a:xfrm>
                <a:off x="8238960" y="630648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23"/>
              <p:cNvSpPr/>
              <p:nvPr/>
            </p:nvSpPr>
            <p:spPr>
              <a:xfrm>
                <a:off x="8307360" y="627372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24"/>
              <p:cNvSpPr/>
              <p:nvPr/>
            </p:nvSpPr>
            <p:spPr>
              <a:xfrm>
                <a:off x="8377560" y="622260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25"/>
              <p:cNvSpPr/>
              <p:nvPr/>
            </p:nvSpPr>
            <p:spPr>
              <a:xfrm>
                <a:off x="8448120" y="617220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Freeform 26"/>
            <p:cNvSpPr/>
            <p:nvPr/>
          </p:nvSpPr>
          <p:spPr>
            <a:xfrm>
              <a:off x="8120160" y="617220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27"/>
            <p:cNvGrpSpPr/>
            <p:nvPr/>
          </p:nvGrpSpPr>
          <p:grpSpPr>
            <a:xfrm>
              <a:off x="8577360" y="6019920"/>
              <a:ext cx="109440" cy="304560"/>
              <a:chOff x="8577360" y="6019920"/>
              <a:chExt cx="109440" cy="304560"/>
            </a:xfrm>
          </p:grpSpPr>
          <p:sp>
            <p:nvSpPr>
              <p:cNvPr id="549" name="Freeform 28"/>
              <p:cNvSpPr/>
              <p:nvPr/>
            </p:nvSpPr>
            <p:spPr>
              <a:xfrm>
                <a:off x="8577360" y="6019920"/>
                <a:ext cx="109440" cy="30456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8577360" y="6172200"/>
                <a:ext cx="109440" cy="151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PlaceHolder 5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1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553" name="AutoShape 32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33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34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ASS AND WE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1371600" y="6576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1" name="Picture 4" descr=""/>
          <p:cNvPicPr/>
          <p:nvPr/>
        </p:nvPicPr>
        <p:blipFill>
          <a:blip r:embed="rId1"/>
          <a:stretch/>
        </p:blipFill>
        <p:spPr>
          <a:xfrm>
            <a:off x="6934320" y="762120"/>
            <a:ext cx="1904760" cy="25398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5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854360" cy="13716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6" descr=""/>
          <p:cNvPicPr/>
          <p:nvPr/>
        </p:nvPicPr>
        <p:blipFill>
          <a:blip r:embed="rId3"/>
          <a:stretch/>
        </p:blipFill>
        <p:spPr>
          <a:xfrm>
            <a:off x="3276720" y="4191120"/>
            <a:ext cx="2463840" cy="18921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7" descr=""/>
          <p:cNvPicPr/>
          <p:nvPr/>
        </p:nvPicPr>
        <p:blipFill>
          <a:blip r:embed="rId4"/>
          <a:stretch/>
        </p:blipFill>
        <p:spPr>
          <a:xfrm>
            <a:off x="6172200" y="4495680"/>
            <a:ext cx="2463840" cy="1727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8" descr=""/>
          <p:cNvPicPr/>
          <p:nvPr/>
        </p:nvPicPr>
        <p:blipFill>
          <a:blip r:embed="rId5"/>
          <a:stretch/>
        </p:blipFill>
        <p:spPr>
          <a:xfrm>
            <a:off x="304920" y="3276720"/>
            <a:ext cx="21333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460ee"/>
                </a:solidFill>
                <a:latin typeface="Comic Sans MS"/>
              </a:rPr>
              <a:t>DEFINITIONS</a:t>
            </a:r>
            <a:endParaRPr b="1" lang="en-US" sz="5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the amount of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 object h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atter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mething that has mass and takes up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eigh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the amount of mass of an object, it is dependent upon gravi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Units for Measuring Mas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is measured 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gram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kil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 paper clip= 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000g=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verage human adult weighs 75k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Picture 4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806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Tools for Measuring Mas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*The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Triple Beam Balan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the tool we use to measure mass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53" name="Picture 4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4279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How to use a Triple Beam Balanc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5400" y="2819160"/>
            <a:ext cx="8226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ake sure th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alance scale is at zer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Place the object to be weighed on the balance plate and move the largest </a:t>
            </a:r>
            <a:r>
              <a:rPr b="1" i="1" lang="en-US" sz="2800" spc="-1" strike="noStrike">
                <a:solidFill>
                  <a:srgbClr val="eaeaea"/>
                </a:solidFill>
                <a:latin typeface="Comic Sans MS"/>
              </a:rPr>
              <a:t>RIDER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 one notch at a time until the beam drops. Move the rider back one notch until it locks into pla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6" name="Picture 4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971800" cy="16765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5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3623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-268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mic Sans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Move the next largest rider until the beam drops.  Back it up one notch, and lock it in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Move the smallest rider until the beam swings equally above and below the zero m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0" name="Picture 4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3124440" cy="21333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5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590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-306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DD UP ALL THE NUMBERS AND THAT WILL GIVE YOU THE MASS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*Always remember to write the unit of mass down.   (ex.- kg, g)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Picture 4" descr=""/>
          <p:cNvPicPr/>
          <p:nvPr/>
        </p:nvPicPr>
        <p:blipFill>
          <a:blip r:embed="rId1"/>
          <a:stretch/>
        </p:blipFill>
        <p:spPr>
          <a:xfrm>
            <a:off x="2590920" y="4800600"/>
            <a:ext cx="3429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S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vs.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remains constant                  Depends on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es not depend on gravity              weight=mass x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ight of a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nges if the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6"/>
          <p:cNvSpPr/>
          <p:nvPr/>
        </p:nvSpPr>
        <p:spPr>
          <a:xfrm>
            <a:off x="4525920" y="1738440"/>
            <a:ext cx="370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10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2286000" cy="1892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"/>
          <p:cNvPicPr/>
          <p:nvPr/>
        </p:nvPicPr>
        <p:blipFill>
          <a:blip r:embed="rId2"/>
          <a:stretch/>
        </p:blipFill>
        <p:spPr>
          <a:xfrm>
            <a:off x="3048120" y="464832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2" descr=""/>
          <p:cNvPicPr/>
          <p:nvPr/>
        </p:nvPicPr>
        <p:blipFill>
          <a:blip r:embed="rId3"/>
          <a:stretch/>
        </p:blipFill>
        <p:spPr>
          <a:xfrm>
            <a:off x="7010280" y="5410080"/>
            <a:ext cx="1905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THE END</a:t>
            </a:r>
            <a:endParaRPr b="1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1371600" y="64994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 Colby</dc:creator>
  <dc:description/>
  <dc:language>en-US</dc:language>
  <cp:lastModifiedBy>Andrea Colby</cp:lastModifiedBy>
  <dcterms:modified xsi:type="dcterms:W3CDTF">2013-04-08T17:20:22Z</dcterms:modified>
  <cp:revision>2</cp:revision>
  <dc:subject/>
  <dc:title>MASS AND WEIGHT</dc:title>
</cp:coreProperties>
</file>